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F556-2FFA-4C2E-BEDC-FED02F59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12A2-7116-43DC-B2B5-61E35066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8982-3315-4DBF-A8EB-1A05EB30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B703-9747-4E9E-A9C2-3C4EE013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2A43-13DA-464D-AA6C-4BE53C29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A1B4-B93F-4465-BDAA-7D1A3D99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D2D2-7376-485E-AA28-F7539EDD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D743-D8AF-408F-80F2-00CEA39F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A60F-264E-4784-9AF2-4ED022A1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01DF-F2A4-4D13-8E8C-5F1BC3D2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13E7-11BA-4A8F-935C-5EC89F45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1326-5426-48F0-8677-0E7A6129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1B10-A355-4781-87AF-746486AA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B204-666B-4C1F-95E8-B64E7706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BE39-1381-4BF2-BB9A-BF1239C9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B00E-234E-473C-8B4C-E716DD33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6FA3-96B4-44D8-AB6E-46CEFAEC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68B0-84A6-411F-99BE-C9B9980D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00C0-D5C3-491F-80D0-F275B64B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5732-E41E-4E01-8855-BC8489D1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9418-B22D-487F-A65B-91310F0F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3586-B2B0-492D-9218-3A88FB8B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1F3C-B303-4D55-90DB-5C50ED23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2611-F374-4664-8253-58FE5FB3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4759-7050-4257-A516-0C913564EB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5A80-3BE8-4920-8FB1-59699DEAD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utokey-Plai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as easy to break as the autokey-ciphertext but . .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asiski-like method exists to determine the “group length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-length is the actual keyword length but since the keyword is not repeated, the group-length describes the length of segments of the runn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gments define the distance between a plaintext letter being enciphered and becoming a key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00DE-FF09-47E7-BB9D-53298AADD1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, if the keyword is “alice” a possible cipher structure could be given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4480" y="45957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5400" y="41338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8280" y="4570560"/>
            <a:ext cx="2161800" cy="1532880"/>
            <a:chOff x="368280" y="4570560"/>
            <a:chExt cx="2161800" cy="1532880"/>
          </a:xfrm>
        </p:grpSpPr>
        <p:sp>
          <p:nvSpPr>
            <p:cNvPr id="120" name=""/>
            <p:cNvSpPr/>
            <p:nvPr/>
          </p:nvSpPr>
          <p:spPr>
            <a:xfrm>
              <a:off x="957240" y="457056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8280" y="564372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enciph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08320" y="4094280"/>
            <a:ext cx="2148120" cy="2052000"/>
            <a:chOff x="3208320" y="4094280"/>
            <a:chExt cx="2148120" cy="2052000"/>
          </a:xfrm>
        </p:grpSpPr>
        <p:sp>
          <p:nvSpPr>
            <p:cNvPr id="123" name=""/>
            <p:cNvSpPr/>
            <p:nvPr/>
          </p:nvSpPr>
          <p:spPr>
            <a:xfrm>
              <a:off x="3381480" y="409428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8320" y="568656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a key let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57480" y="3571920"/>
            <a:ext cx="2438280" cy="641160"/>
            <a:chOff x="1257480" y="3571920"/>
            <a:chExt cx="2438280" cy="641160"/>
          </a:xfrm>
        </p:grpSpPr>
        <p:sp>
          <p:nvSpPr>
            <p:cNvPr id="126" name=""/>
            <p:cNvSpPr/>
            <p:nvPr/>
          </p:nvSpPr>
          <p:spPr>
            <a:xfrm>
              <a:off x="1257480" y="3741840"/>
              <a:ext cx="0" cy="4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95760" y="3722760"/>
              <a:ext cx="0" cy="4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7200" y="3941640"/>
              <a:ext cx="2257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0120" y="357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5AA0-A54B-4E49-BF0A-1377351603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154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discover the group length from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group length is 5 then every plaintext letter will be enciphered by the letter 5 positions to its left and in turn will encipher the letter 5 positions to it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plaintext has a lot of repeated characters there will be an unusually large number of identical letters separated by the group leng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73544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:     . . . R . . .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intext:     . . . S . . 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phertext:     . . . J . . .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51320" y="4803840"/>
            <a:ext cx="1793880" cy="709560"/>
            <a:chOff x="5251320" y="4803840"/>
            <a:chExt cx="1793880" cy="709560"/>
          </a:xfrm>
        </p:grpSpPr>
        <p:sp>
          <p:nvSpPr>
            <p:cNvPr id="134" name=""/>
            <p:cNvSpPr/>
            <p:nvPr/>
          </p:nvSpPr>
          <p:spPr>
            <a:xfrm>
              <a:off x="5251320" y="5167440"/>
              <a:ext cx="33624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8600" y="4803840"/>
              <a:ext cx="33660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587560" y="5051160"/>
              <a:ext cx="109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99000" y="4667400"/>
            <a:ext cx="3470400" cy="1191240"/>
            <a:chOff x="5499000" y="4667400"/>
            <a:chExt cx="3470400" cy="1191240"/>
          </a:xfrm>
        </p:grpSpPr>
        <p:sp>
          <p:nvSpPr>
            <p:cNvPr id="138" name=""/>
            <p:cNvSpPr/>
            <p:nvPr/>
          </p:nvSpPr>
          <p:spPr>
            <a:xfrm>
              <a:off x="6707160" y="5165640"/>
              <a:ext cx="355680" cy="355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9000" y="5024520"/>
              <a:ext cx="1198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15400" y="4667400"/>
              <a:ext cx="185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here is a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hance that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kind of event w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occ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83080" y="5823000"/>
            <a:ext cx="1499040" cy="455760"/>
            <a:chOff x="5383080" y="5823000"/>
            <a:chExt cx="1499040" cy="455760"/>
          </a:xfrm>
        </p:grpSpPr>
        <p:sp>
          <p:nvSpPr>
            <p:cNvPr id="142" name=""/>
            <p:cNvSpPr/>
            <p:nvPr/>
          </p:nvSpPr>
          <p:spPr>
            <a:xfrm>
              <a:off x="5410440" y="5823000"/>
              <a:ext cx="0" cy="28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37440" y="5919840"/>
              <a:ext cx="1393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7080" y="5824440"/>
              <a:ext cx="0" cy="28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3080" y="591048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Group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A59F-8A2D-45D4-98BC-6218FF9F20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786280" cy="24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istances between all letter repeti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distances are strong candidates for the group-leng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automatically calculate these di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4680" y="3376440"/>
            <a:ext cx="257184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0A70-E481-4BE4-8AC1-F3DF2D69B2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2055600"/>
            <a:ext cx="82501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the group length reveals how the plaintext is divided into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roup length is 5, then the first segment consists of every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 beginning with the first le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 encipher chain for this segment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6120" y="51544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6760" y="469260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1040" y="56260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t s q u m l h v w f s m c 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93880" y="5019480"/>
            <a:ext cx="2547360" cy="586080"/>
            <a:chOff x="893880" y="5019480"/>
            <a:chExt cx="2547360" cy="586080"/>
          </a:xfrm>
        </p:grpSpPr>
        <p:sp>
          <p:nvSpPr>
            <p:cNvPr id="155" name=""/>
            <p:cNvSpPr/>
            <p:nvPr/>
          </p:nvSpPr>
          <p:spPr>
            <a:xfrm>
              <a:off x="893880" y="5203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303200" y="5019480"/>
              <a:ext cx="213804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788080" y="5259240"/>
            <a:ext cx="401760" cy="4017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4480" y="5010120"/>
            <a:ext cx="2555280" cy="622440"/>
            <a:chOff x="3354480" y="5010120"/>
            <a:chExt cx="2555280" cy="622440"/>
          </a:xfrm>
        </p:grpSpPr>
        <p:sp>
          <p:nvSpPr>
            <p:cNvPr id="159" name=""/>
            <p:cNvSpPr/>
            <p:nvPr/>
          </p:nvSpPr>
          <p:spPr>
            <a:xfrm>
              <a:off x="3354480" y="5230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87560" y="5010120"/>
              <a:ext cx="2122200" cy="3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03240" y="569448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6560" y="567864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07160" y="5697360"/>
            <a:ext cx="434880" cy="435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F730-4684-4AFE-BD39-983AE67868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7076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a brute force attack because each segment is defined by its beginning character (which is from the key wor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6440" y="391644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iphertext (known)    Key character (unknown)   plaintext (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4480" y="419724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58316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01440" y="5016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80040" y="3500280"/>
            <a:ext cx="1342800" cy="1148760"/>
            <a:chOff x="4280040" y="3500280"/>
            <a:chExt cx="1342800" cy="1148760"/>
          </a:xfrm>
        </p:grpSpPr>
        <p:sp>
          <p:nvSpPr>
            <p:cNvPr id="171" name=""/>
            <p:cNvSpPr/>
            <p:nvPr/>
          </p:nvSpPr>
          <p:spPr>
            <a:xfrm>
              <a:off x="4280040" y="41893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1440" y="3500280"/>
              <a:ext cx="941400" cy="647640"/>
            </a:xfrm>
            <a:prstGeom prst="wedgeRoundRectCallout">
              <a:avLst>
                <a:gd name="adj1" fmla="val -44773"/>
                <a:gd name="adj2" fmla="val 70097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u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55760" y="4179960"/>
            <a:ext cx="26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308120" y="4397400"/>
            <a:ext cx="2370600" cy="626400"/>
            <a:chOff x="4308120" y="4397400"/>
            <a:chExt cx="2370600" cy="626400"/>
          </a:xfrm>
        </p:grpSpPr>
        <p:sp>
          <p:nvSpPr>
            <p:cNvPr id="175" name=""/>
            <p:cNvSpPr/>
            <p:nvPr/>
          </p:nvSpPr>
          <p:spPr>
            <a:xfrm flipH="1">
              <a:off x="4662720" y="4397400"/>
              <a:ext cx="20160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08120" y="45640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87960" y="4956120"/>
            <a:ext cx="2788560" cy="551880"/>
            <a:chOff x="4287960" y="4956120"/>
            <a:chExt cx="2788560" cy="551880"/>
          </a:xfrm>
        </p:grpSpPr>
        <p:sp>
          <p:nvSpPr>
            <p:cNvPr id="178" name=""/>
            <p:cNvSpPr/>
            <p:nvPr/>
          </p:nvSpPr>
          <p:spPr>
            <a:xfrm>
              <a:off x="6726600" y="49561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7960" y="5048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95160" y="4578480"/>
            <a:ext cx="2749680" cy="459720"/>
            <a:chOff x="4295160" y="4578480"/>
            <a:chExt cx="2749680" cy="459720"/>
          </a:xfrm>
        </p:grpSpPr>
        <p:sp>
          <p:nvSpPr>
            <p:cNvPr id="181" name=""/>
            <p:cNvSpPr/>
            <p:nvPr/>
          </p:nvSpPr>
          <p:spPr>
            <a:xfrm>
              <a:off x="4295160" y="45784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1840" y="45784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07040" y="4822920"/>
            <a:ext cx="2442960" cy="658080"/>
            <a:chOff x="4307040" y="4822920"/>
            <a:chExt cx="2442960" cy="658080"/>
          </a:xfrm>
        </p:grpSpPr>
        <p:sp>
          <p:nvSpPr>
            <p:cNvPr id="184" name=""/>
            <p:cNvSpPr/>
            <p:nvPr/>
          </p:nvSpPr>
          <p:spPr>
            <a:xfrm flipH="1">
              <a:off x="4751280" y="4822920"/>
              <a:ext cx="199872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7040" y="5021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60440" y="4466880"/>
            <a:ext cx="2921040" cy="1806120"/>
            <a:chOff x="1360440" y="4466880"/>
            <a:chExt cx="2921040" cy="1806120"/>
          </a:xfrm>
        </p:grpSpPr>
        <p:sp>
          <p:nvSpPr>
            <p:cNvPr id="187" name=""/>
            <p:cNvSpPr/>
            <p:nvPr/>
          </p:nvSpPr>
          <p:spPr>
            <a:xfrm>
              <a:off x="1360440" y="581328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y all 26 gu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38400" y="4466880"/>
              <a:ext cx="124308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516640" y="5371920"/>
            <a:ext cx="2940840" cy="1489320"/>
            <a:chOff x="5516640" y="5371920"/>
            <a:chExt cx="2940840" cy="1489320"/>
          </a:xfrm>
        </p:grpSpPr>
        <p:sp>
          <p:nvSpPr>
            <p:cNvPr id="190" name=""/>
            <p:cNvSpPr/>
            <p:nvPr/>
          </p:nvSpPr>
          <p:spPr>
            <a:xfrm>
              <a:off x="5516640" y="6035760"/>
              <a:ext cx="294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low frequenc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acter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900840" y="537192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7117-266F-499F-B0C7-6647D4B1FA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4T03:28:15Z</dcterms:modified>
  <cp:revision>64</cp:revision>
  <dc:subject/>
  <dc:title>CAP Cryptographic Analysis Program</dc:title>
</cp:coreProperties>
</file>